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2640" y="685440"/>
            <a:ext cx="45687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57D689-292C-4DA8-83FC-0872A4F2D4D6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C66F7-C0DD-4BF1-BCDE-0AE0CE073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41FCD-6A67-4B03-8C0D-5C9185ED5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8CF41-2019-47CF-9674-C58427552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200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92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200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92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AE7F1-6706-4B7C-9435-F8EDE67DB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302C7-9AB7-47CA-AFF1-DD5C1845C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E67C3-FDA2-4B44-BD1C-7FA894F90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B1A44-B671-40B7-BAD0-7D95C7FB0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4DD5E-46C4-4F43-8498-F9F0E4698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A9B29-59D1-4627-AF48-2228B7A9F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B1E9C-82C4-456C-A1A9-3D323C66F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0EDF6-3531-4E6E-83E2-15C0BFFC1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09AC1-6970-4D57-B512-8B0E2AED8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1800" indent="-27180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91840" indent="-2260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28016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C66A07-4AB7-4383-94CC-856388227B3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258920" y="836640"/>
            <a:ext cx="66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NEW MODES OF GATHERING SURVEY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195640" y="2781360"/>
            <a:ext cx="50403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ELLULAR PH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24000" y="189000"/>
            <a:ext cx="8496000" cy="6408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uan Díez Nicolás</dc:creator>
  <dc:description/>
  <dc:language>en-US</dc:language>
  <cp:lastModifiedBy>NickM</cp:lastModifiedBy>
  <cp:revision>0</cp:revision>
  <dc:subject/>
  <dc:title>Sin título de diapositiva</dc:title>
</cp:coreProperties>
</file>